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016F-E7CF-468D-AAD6-9CCEF076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3FF-E3DB-41E3-BBAA-A978D21B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4CE4-BF1C-4E21-8855-50333919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A03D-9406-4655-9D63-0AA7BEB1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E71-DEAE-4E12-ACDF-E8A133D5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75D-10DD-4A7C-8957-4F8E099D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D9CB-89EC-4000-8D6B-4E9469A9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0CC-2AD2-4D60-B3B0-FAAD4AEC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B99D-DF77-4855-A2B6-399E2898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9C7-9E71-4C26-A3C6-D7DB63CC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97C5-5487-4F5E-A7B1-B256FFAB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385-EB31-44FE-BD24-0975FD30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CD0C-B2C9-4A56-96F7-3C700880D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484000" y="5516640"/>
            <a:ext cx="45291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оф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. др Гвозден Рос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116800" y="1197000"/>
            <a:ext cx="48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стоматоло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-396720" y="2708280"/>
            <a:ext cx="9540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ИОМЕХАНИЧК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Latn-R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СВОЈ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РДИОВАСКУЛАРНОГ СИСТЕМА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3524760" y="1773360"/>
            <a:ext cx="22197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ЕДМ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БИО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. НЕДЕЉА НАСТА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иомеханичк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ојств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оток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ређен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радијентом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тиск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ним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довим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скозношћ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31880" y="553680"/>
            <a:ext cx="58802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иомеханичка својства крвот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rcRect l="46209" t="46875" r="17265" b="18671"/>
          <a:stretch/>
        </p:blipFill>
        <p:spPr>
          <a:xfrm>
            <a:off x="1476360" y="3068640"/>
            <a:ext cx="5838840" cy="30970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1281960" y="2708280"/>
            <a:ext cx="62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редности крвног притиска у различитим деловима крво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нтензите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оток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ото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дна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преми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тек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диниц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ем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31880" y="553680"/>
            <a:ext cx="58802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иомеханичка својства крвот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rcRect l="50083" t="39985" r="26122" b="49193"/>
          <a:stretch/>
        </p:blipFill>
        <p:spPr>
          <a:xfrm>
            <a:off x="826920" y="2852640"/>
            <a:ext cx="3097440" cy="7923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849240" y="3789360"/>
            <a:ext cx="804852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ритиса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крвном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су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ужин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рвног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уда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    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брзин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ротицањ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пречног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ресек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рвног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уд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ужавањ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апилар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овод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већањ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ритиск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њим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rcRect l="61070" t="27362" r="31739" b="62800"/>
          <a:stretch/>
        </p:blipFill>
        <p:spPr>
          <a:xfrm>
            <a:off x="1116000" y="4292640"/>
            <a:ext cx="1079640" cy="831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rcRect l="36536" t="34252" r="62730" b="63504"/>
          <a:stretch/>
        </p:blipFill>
        <p:spPr>
          <a:xfrm>
            <a:off x="8244000" y="5661000"/>
            <a:ext cx="168120" cy="289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4"/>
          <a:srcRect l="56643" t="30315" r="41146" b="65753"/>
          <a:stretch/>
        </p:blipFill>
        <p:spPr>
          <a:xfrm>
            <a:off x="378000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5"/>
          <a:srcRect l="44339" t="31068" r="54557" b="65984"/>
          <a:stretch/>
        </p:blipFill>
        <p:spPr>
          <a:xfrm>
            <a:off x="4572000" y="5229360"/>
            <a:ext cx="239760" cy="36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6"/>
          <a:srcRect l="33399" t="38189" r="35059" b="37205"/>
          <a:stretch/>
        </p:blipFill>
        <p:spPr>
          <a:xfrm>
            <a:off x="4284720" y="2924280"/>
            <a:ext cx="459576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ластичност крвних суд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Еластичност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крвних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судо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еб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ртер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лик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нача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инуира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тиц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сто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мор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стол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олуме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пумпа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ртери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ергиј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лова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идов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ртер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ансформиса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ластич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ерги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форма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шире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ртер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стан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стол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мор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e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астич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и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р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и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раћ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вобит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им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ерг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ластич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форма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тва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инетич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ерги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ртеријс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rcRect l="29052" t="62628" r="44939" b="15719"/>
          <a:stretch/>
        </p:blipFill>
        <p:spPr>
          <a:xfrm>
            <a:off x="826920" y="4581360"/>
            <a:ext cx="4154760" cy="1943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5003640" y="4941720"/>
            <a:ext cx="331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еластичног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зид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аорт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убацивањ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(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систол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комор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 (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рестанк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систол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комор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ластичност крвних суд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ластич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ала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који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и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уж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цел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ртер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пулсни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тала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з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унгов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дначино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 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унг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ду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ластичн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ртер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ρ 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ецифич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ус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 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бљ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и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ртер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 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ње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утрашн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лупречни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 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мпиријс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стан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ло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тиц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кспериментал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каза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з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улс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a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чет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o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 ~ 3 m/s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ериферн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ртерија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~ 10 m/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44549" t="44119" r="44939" b="47943"/>
          <a:stretch/>
        </p:blipFill>
        <p:spPr>
          <a:xfrm>
            <a:off x="971640" y="2349360"/>
            <a:ext cx="220500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гулис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вно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тиска под утицајем отп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рш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мено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тпор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них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дов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нос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њиховог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пречног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с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жењ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азоконстрикциј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ног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тисак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ст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ширењ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азодилатациј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ног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тисак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а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м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шл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натн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ног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тиск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пред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ст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жењ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ширењ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реб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ђ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азоконстрикци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азодилатаци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ћег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ој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ртериол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пилар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поред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валитатив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ка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тис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и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)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зи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тиц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и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I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тпо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до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и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II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н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лов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от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rcRect l="31266" t="39001" r="39959" b="34424"/>
          <a:stretch/>
        </p:blipFill>
        <p:spPr>
          <a:xfrm>
            <a:off x="1187280" y="2205000"/>
            <a:ext cx="6934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поред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валитатив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ка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тис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и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)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зи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тиц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и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I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тпо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до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и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II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н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лов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от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 претходној слици се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д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ду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орт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упљ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на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тис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гресив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а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тпо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гресивн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њењ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чни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до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ст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ве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ла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ртерио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пила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т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а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ширењ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ото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упљ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з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тиц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а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раст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тпо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њењ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тпо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но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ст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упљ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на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шт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г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ор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брз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аор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~ 0,25 m/s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капилар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~ 0,0005 m/s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вена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~ 0,20 m/s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очи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ли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зи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улс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ала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споде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једин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рган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ове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ров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ут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олуме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5.000 m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rcRect l="28972" t="39173" r="30632" b="13578"/>
          <a:stretch/>
        </p:blipFill>
        <p:spPr>
          <a:xfrm>
            <a:off x="1042920" y="1844640"/>
            <a:ext cx="69850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асподела крви у организму за време физичког нап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јачаној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јединих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рга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бијај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ћ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г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ровањ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чун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рга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мент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казу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јачан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тивност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зв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. "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орб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ледиц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азодилатаци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тивнијих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рга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ток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њим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азоконстрикци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активнијих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рга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њихов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набдевањ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љ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товреме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личи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циркулациј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чун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ћег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ој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рга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по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тр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лези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ж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лућ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лобађај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о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4244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ерење величине притиска крв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нвазивне метод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еинвазивне метод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ритисак крви се изражава у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mmHg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cm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(1mmHg=1.36 cm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CIRK 14-7"/>
          <p:cNvPicPr/>
          <p:nvPr/>
        </p:nvPicPr>
        <p:blipFill>
          <a:blip r:embed="rId1"/>
          <a:stretch/>
        </p:blipFill>
        <p:spPr>
          <a:xfrm>
            <a:off x="4643280" y="189000"/>
            <a:ext cx="3889440" cy="3673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CIRK 14-8"/>
          <p:cNvPicPr/>
          <p:nvPr/>
        </p:nvPicPr>
        <p:blipFill>
          <a:blip r:embed="rId2"/>
          <a:stretch/>
        </p:blipFill>
        <p:spPr>
          <a:xfrm>
            <a:off x="4643280" y="3860640"/>
            <a:ext cx="3889440" cy="2997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560" y="162864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рдиоваскулар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ст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и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рц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дов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ртер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пилар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веза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творе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о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.  Системска циркулац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'Велики крвоток'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2. Плућна циркулац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'Мали крвоток'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Ð¡ÑÐ¾Ð´Ð½Ð° ÑÐ»Ð¸ÐºÐ°"/>
          <p:cNvPicPr/>
          <p:nvPr/>
        </p:nvPicPr>
        <p:blipFill>
          <a:blip r:embed="rId1"/>
          <a:srcRect l="0" t="10449" r="0" b="0"/>
          <a:stretch/>
        </p:blipFill>
        <p:spPr>
          <a:xfrm>
            <a:off x="3348000" y="1341360"/>
            <a:ext cx="5297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ерење величине проток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рв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нвазивне метод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еинвазивне метод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- помоћу ЕМ пољ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- помоћу ултразву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росечна величина протока у циркулацији одраслог човека је </a:t>
            </a:r>
            <a:r>
              <a:rPr b="1" lang="sr-Latn-CS" sz="2200" spc="-1" strike="noStrike">
                <a:solidFill>
                  <a:srgbClr val="000000"/>
                </a:solidFill>
                <a:latin typeface="Calibri"/>
              </a:rPr>
              <a:t>5000 ml/min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дговара вредности минутног волумена срц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CIRK 14-4"/>
          <p:cNvPicPr/>
          <p:nvPr/>
        </p:nvPicPr>
        <p:blipFill>
          <a:blip r:embed="rId1"/>
          <a:stretch/>
        </p:blipFill>
        <p:spPr>
          <a:xfrm>
            <a:off x="4465800" y="1341360"/>
            <a:ext cx="4678200" cy="2706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CIRK 14-5"/>
          <p:cNvPicPr/>
          <p:nvPr/>
        </p:nvPicPr>
        <p:blipFill>
          <a:blip r:embed="rId2"/>
          <a:stretch/>
        </p:blipFill>
        <p:spPr>
          <a:xfrm>
            <a:off x="4500720" y="4149720"/>
            <a:ext cx="4643280" cy="2271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569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вантитативни параметри за анализу функције циркулаторног систем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ток кр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пор протицању кр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тисак (разлика у притисцима између два краја су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CIRK 14-3"/>
          <p:cNvPicPr/>
          <p:nvPr/>
        </p:nvPicPr>
        <p:blipFill>
          <a:blip r:embed="rId1"/>
          <a:stretch/>
        </p:blipFill>
        <p:spPr>
          <a:xfrm>
            <a:off x="2124000" y="2997360"/>
            <a:ext cx="6769080" cy="3655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280" y="981000"/>
            <a:ext cx="50770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нос између притиска и отп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финише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</a:rPr>
              <a:t>Омов зак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знавање било која два параметра омогућавa изрaчунaвaње трећег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028" descr="CIRK"/>
          <p:cNvPicPr/>
          <p:nvPr/>
        </p:nvPicPr>
        <p:blipFill>
          <a:blip r:embed="rId1"/>
          <a:stretch/>
        </p:blipFill>
        <p:spPr>
          <a:xfrm>
            <a:off x="5076720" y="1170000"/>
            <a:ext cx="4067280" cy="1898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29" descr="CIRK"/>
          <p:cNvPicPr/>
          <p:nvPr/>
        </p:nvPicPr>
        <p:blipFill>
          <a:blip r:embed="rId2"/>
          <a:stretch/>
        </p:blipFill>
        <p:spPr>
          <a:xfrm>
            <a:off x="4859280" y="3500280"/>
            <a:ext cx="4068720" cy="244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2050920" y="2708280"/>
            <a:ext cx="542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Типови протицања к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(динамика флуи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3538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Типови протицања крв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ламинар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ток крв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сли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турбулент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ток крв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9" descr="CIRK 14-6"/>
          <p:cNvPicPr/>
          <p:nvPr/>
        </p:nvPicPr>
        <p:blipFill>
          <a:blip r:embed="rId1"/>
          <a:stretch/>
        </p:blipFill>
        <p:spPr>
          <a:xfrm>
            <a:off x="3851280" y="1341360"/>
            <a:ext cx="5292720" cy="352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836280"/>
            <a:ext cx="6227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вантификација тенденције настанка турбулентног тока крви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</a:rPr>
              <a:t>Рејнолдсов бро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Re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јнолдсoв брo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v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зина протока кр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d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јаметар с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η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скозност кр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устина кр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e &lt; 200 –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ма турбулентног тока кр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e 200-400 –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гућ је турбулентни то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и (на карактеристичним местим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e &gt; 2000 – свуда је могућ турбулентни ток крв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CIRK"/>
          <p:cNvPicPr/>
          <p:nvPr/>
        </p:nvPicPr>
        <p:blipFill>
          <a:blip r:embed="rId1"/>
          <a:stretch/>
        </p:blipFill>
        <p:spPr>
          <a:xfrm>
            <a:off x="4859280" y="1628640"/>
            <a:ext cx="3708360" cy="24289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1763640" y="2349360"/>
            <a:ext cx="621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еличина протока крв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(Поазејев зак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46432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нос фактора који утичу на величину протока крви кроз крвни суд дефинише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</a:rPr>
              <a:t>Поазејев зак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Q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личина прот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лика у притисц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r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јаметар крвног с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η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скозност кр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l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ужина крвног с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CIRK FORM6"/>
          <p:cNvPicPr/>
          <p:nvPr/>
        </p:nvPicPr>
        <p:blipFill>
          <a:blip r:embed="rId1"/>
          <a:stretch/>
        </p:blipFill>
        <p:spPr>
          <a:xfrm>
            <a:off x="395280" y="2492280"/>
            <a:ext cx="3324240" cy="1357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CIRK 14-9"/>
          <p:cNvPicPr/>
          <p:nvPr/>
        </p:nvPicPr>
        <p:blipFill>
          <a:blip r:embed="rId2"/>
          <a:stretch/>
        </p:blipFill>
        <p:spPr>
          <a:xfrm>
            <a:off x="4716360" y="1484280"/>
            <a:ext cx="4427640" cy="4537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166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хема поделе крвотока и кружења кр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1819" t="32111" r="23908" b="27534"/>
          <a:stretch/>
        </p:blipFill>
        <p:spPr>
          <a:xfrm>
            <a:off x="611280" y="1773360"/>
            <a:ext cx="80089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Функционална анатомија ср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Ð ÐµÐ·ÑÐ»ÑÐ°Ñ ÑÐ»Ð¸ÐºÐ° Ð·Ð° veliki i mali krvotok slike"/>
          <p:cNvPicPr/>
          <p:nvPr/>
        </p:nvPicPr>
        <p:blipFill>
          <a:blip r:embed="rId1"/>
          <a:stretch/>
        </p:blipFill>
        <p:spPr>
          <a:xfrm>
            <a:off x="971640" y="1484280"/>
            <a:ext cx="738648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Биомехничка својства ср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4000" y="206064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рц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централн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упљ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н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рган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оји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нажни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итмички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ракцијам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натни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тиско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бацу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четн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орт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лућн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ртери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 овај начин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тварен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вољ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лик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радијент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тиск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четног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ртеријског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вршног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л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оток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упљ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н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лућн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хваљујућ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радијент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прекид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уж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о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Грађа ср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11970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рц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стој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4 шупљине: а) дв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ткомор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тријум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в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с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мор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нтрикул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в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с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 4 залистк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:  а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триовентрикулски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V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лисц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трикуспидни (три куспис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митрални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ва куспис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б) 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милунарн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залисц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залистак аор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залистак плућне артер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39280" y="1483920"/>
            <a:ext cx="824724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триовентрикул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 (AV) залисци спречавају враћање крви за време систоле из комора у преткомо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емилунарни залисци спречавају враћање крви за време дијастоле из аорте и плућне артерије у комо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алисци се пасивно отварају и затварај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атварање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 отварање залистака се одвиј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према градијенту прити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лога папиларних мишић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вуку AV залиске у коморе за време систоле комор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а залисци не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превише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минира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у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упљин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еткомо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3038760" y="620640"/>
            <a:ext cx="294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лога залист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Радни ефекат срца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) једнак је производу средњег артеријског притиск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) и систолног волумена крви који се убаци у артерије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а *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 леву комору ј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s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≈ 0,8 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 десну (чији је зид миокарда тањи од зида леве коморе) ј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≈ 0,1 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Укупни радни ефекат срц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 у мирном стању особе, једнак ј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≈ 0,9 J –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 току једне контрак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 телесним напрезањима овај рад се вишеструко повећава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адни ефекат ср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Средњ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брзин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амилар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ета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д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упречни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ужи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агенов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ефицијен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скозн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зли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тиса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ајеви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изиолошко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итератур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зи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редњ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тиск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едн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р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абел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 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радијен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ти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31880" y="553680"/>
            <a:ext cx="58802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иомеханичка својства крвот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87165" t="79365" r="8411" b="14734"/>
          <a:stretch/>
        </p:blipFill>
        <p:spPr>
          <a:xfrm>
            <a:off x="826920" y="5300640"/>
            <a:ext cx="576360" cy="43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rcRect l="64473" t="56722" r="8475" b="30600"/>
          <a:stretch/>
        </p:blipFill>
        <p:spPr>
          <a:xfrm>
            <a:off x="971640" y="2421000"/>
            <a:ext cx="3519360" cy="92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3"/>
          <a:srcRect l="72710" t="70389" r="16778" b="23711"/>
          <a:stretch/>
        </p:blipFill>
        <p:spPr>
          <a:xfrm>
            <a:off x="826920" y="3789360"/>
            <a:ext cx="1368720" cy="43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4"/>
          <a:srcRect l="81564" t="63499" r="17329" b="30600"/>
          <a:stretch/>
        </p:blipFill>
        <p:spPr>
          <a:xfrm>
            <a:off x="900000" y="3357720"/>
            <a:ext cx="14292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06:32:31Z</dcterms:created>
  <dc:creator>Ivan Srejovic</dc:creator>
  <dc:description/>
  <dc:language>en-US</dc:language>
  <cp:lastModifiedBy>ХХХ</cp:lastModifiedBy>
  <dcterms:modified xsi:type="dcterms:W3CDTF">2020-09-28T12:29:37Z</dcterms:modified>
  <cp:revision>208</cp:revision>
  <dc:subject/>
  <dc:title>ФИЗИОЛОГИЈА КРВИ</dc:title>
</cp:coreProperties>
</file>